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3.gif" ContentType="image/gif"/>
  <Override PartName="/ppt/media/image1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8127-4678-4316-9D55-C2AE9B0B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61DD-93A4-406F-890D-D88E74AC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415D-198A-404B-B9AC-259A27E1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8C2D-E16D-4F66-92CD-8E13454D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EAA-24DA-4E6B-8B0C-84657354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328B-4348-4770-9E87-E171F1E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4A34-2380-474B-96FC-E2E6323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B1C-62B8-4B63-9E6F-5B89E4C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1D11-CB12-4638-B218-C79779BD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4CF8-27C7-4698-9517-C5077DC4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05C-69A4-4B24-9E57-59E3C25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88EF-8FFA-4F04-A68C-236F21EE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D69-3617-4B9F-B487-0EA5A4A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3C81-54C8-49E2-9F66-501EC7E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4F36-E3B1-4402-8008-0EE53D4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665-80ED-4A7D-BBED-4CDA4A2E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BFE-70D4-482F-AFE4-F8A9376F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88FC-EE64-45A1-AD82-F320D5B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E593-D7CD-42F0-ABD7-61AAECD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6779-70F3-48E3-ABEC-BC25D27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E5CD-BBCA-4594-AACC-5843ECA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FDFD-3797-4345-8B4A-C66A765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4229-BCED-49E3-85C7-08454AC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B803-A65C-4404-8360-85529F0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9A25-15CC-4D31-BBFE-8E6107204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98B-2403-407A-9475-8D6DBCB1B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keletal System: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Axial Skelet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ul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ebral Colum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MPj03857840000[1]"/>
          <p:cNvPicPr/>
          <p:nvPr/>
        </p:nvPicPr>
        <p:blipFill>
          <a:blip r:embed="rId1"/>
          <a:stretch/>
        </p:blipFill>
        <p:spPr>
          <a:xfrm>
            <a:off x="380880" y="3886200"/>
            <a:ext cx="2819520" cy="2013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Pj01811480000[1]"/>
          <p:cNvPicPr/>
          <p:nvPr/>
        </p:nvPicPr>
        <p:blipFill>
          <a:blip r:embed="rId2"/>
          <a:stretch/>
        </p:blipFill>
        <p:spPr>
          <a:xfrm>
            <a:off x="6858000" y="3352680"/>
            <a:ext cx="2021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ical Verteb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dy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hick weight bearing por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rtebral forame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the hole that holds the spinal cor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inous Proces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a single projection for muscle at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ansverse Proces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wo lateral projections for muscle at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ticular Process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the facets that allow the vertebrae to move with the vertebrae superior and inferior to th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anibatter"/>
          <p:cNvPicPr/>
          <p:nvPr/>
        </p:nvPicPr>
        <p:blipFill>
          <a:blip r:embed="rId1"/>
          <a:stretch/>
        </p:blipFill>
        <p:spPr>
          <a:xfrm>
            <a:off x="6781680" y="0"/>
            <a:ext cx="1981440" cy="123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vertebra-and-spinal-nerves"/>
          <p:cNvPicPr/>
          <p:nvPr/>
        </p:nvPicPr>
        <p:blipFill>
          <a:blip r:embed="rId2"/>
          <a:stretch/>
        </p:blipFill>
        <p:spPr>
          <a:xfrm>
            <a:off x="5486400" y="3962520"/>
            <a:ext cx="2822400" cy="22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384tvert"/>
          <p:cNvPicPr/>
          <p:nvPr/>
        </p:nvPicPr>
        <p:blipFill>
          <a:blip r:embed="rId3"/>
          <a:stretch/>
        </p:blipFill>
        <p:spPr>
          <a:xfrm>
            <a:off x="5410080" y="1295280"/>
            <a:ext cx="3133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tlas and Ax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tlas (C1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orts the he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occipital condyles of the skull (nod your head “yes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xis (C2)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“peglike” dens makes a pivot for the head to rotate (move your head “no”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atlas_axis_artic_rotated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189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456165094_96a9fd2260"/>
          <p:cNvPicPr/>
          <p:nvPr/>
        </p:nvPicPr>
        <p:blipFill>
          <a:blip r:embed="rId2"/>
          <a:stretch/>
        </p:blipFill>
        <p:spPr>
          <a:xfrm>
            <a:off x="5334120" y="137160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crum and Coccy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cru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holy bone): 5 fused vertebra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ually starts to fuse at age 16-18 and end in mid 20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a foundation for the pelvis and allows nerves to pa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ccyx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4 vertebrae that f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usion occurs between 20-30 years of 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10" descr="19464"/>
          <p:cNvPicPr/>
          <p:nvPr/>
        </p:nvPicPr>
        <p:blipFill>
          <a:blip r:embed="rId1"/>
          <a:stretch/>
        </p:blipFill>
        <p:spPr>
          <a:xfrm>
            <a:off x="4724280" y="1600200"/>
            <a:ext cx="4419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ural Anesthes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epidural"/>
          <p:cNvPicPr/>
          <p:nvPr/>
        </p:nvPicPr>
        <p:blipFill>
          <a:blip r:embed="rId1"/>
          <a:stretch/>
        </p:blipFill>
        <p:spPr>
          <a:xfrm>
            <a:off x="0" y="1447920"/>
            <a:ext cx="5400720" cy="3609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pidural_needle_insertion_2_c_4x5"/>
          <p:cNvPicPr/>
          <p:nvPr/>
        </p:nvPicPr>
        <p:blipFill>
          <a:blip r:embed="rId2"/>
          <a:stretch/>
        </p:blipFill>
        <p:spPr>
          <a:xfrm>
            <a:off x="5486400" y="14479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childbirth-prep"/>
          <p:cNvPicPr/>
          <p:nvPr/>
        </p:nvPicPr>
        <p:blipFill>
          <a:blip r:embed="rId3"/>
          <a:stretch/>
        </p:blipFill>
        <p:spPr>
          <a:xfrm>
            <a:off x="5715000" y="4038480"/>
            <a:ext cx="3276720" cy="2316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4"/>
          <p:cNvSpPr/>
          <p:nvPr/>
        </p:nvSpPr>
        <p:spPr>
          <a:xfrm>
            <a:off x="-543600" y="5410080"/>
            <a:ext cx="685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umbing medicine is delivered near the spinal cor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rough the sacr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rn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a: Breastb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separate bon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br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iphoid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ticulates with the ribs, provides attachment point for some abdominal muscles, hemopoi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ses in late teens; completely by age 4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8" descr="sternum"/>
          <p:cNvPicPr/>
          <p:nvPr/>
        </p:nvPicPr>
        <p:blipFill>
          <a:blip r:embed="rId1"/>
          <a:stretch/>
        </p:blipFill>
        <p:spPr>
          <a:xfrm>
            <a:off x="5334120" y="1600200"/>
            <a:ext cx="32954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pairs (24 tot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ue Ri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airs 1-7 directly attach to the sternum by costal cartil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lse Rib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irs 8-12, their cartilage attaches to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ib cartil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oating Rib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airs 11-12; don’t attach to the stern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7" descr="Go to fullsize image"/>
          <p:cNvPicPr/>
          <p:nvPr/>
        </p:nvPicPr>
        <p:blipFill>
          <a:blip r:embed="rId1"/>
          <a:stretch/>
        </p:blipFill>
        <p:spPr>
          <a:xfrm>
            <a:off x="5410080" y="380880"/>
            <a:ext cx="1600200" cy="9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frontribs"/>
          <p:cNvPicPr/>
          <p:nvPr/>
        </p:nvPicPr>
        <p:blipFill>
          <a:blip r:embed="rId2"/>
          <a:stretch/>
        </p:blipFill>
        <p:spPr>
          <a:xfrm>
            <a:off x="5410080" y="1600200"/>
            <a:ext cx="294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Sk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2 separate bones, many fused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divis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nial Bones (8 bon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ial Bones (14 bon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8" descr="10062"/>
          <p:cNvPicPr/>
          <p:nvPr/>
        </p:nvPicPr>
        <p:blipFill>
          <a:blip r:embed="rId1"/>
          <a:stretch/>
        </p:blipFill>
        <p:spPr>
          <a:xfrm>
            <a:off x="4800600" y="1600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s of the Crani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lose and protect the br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n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ntal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ietal 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mporal 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ccipital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henoid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hmoid (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924680" y="2944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Sphenoid</a:t>
            </a:r>
            <a:br>
              <a:rPr sz="1400"/>
            </a:br>
            <a:r>
              <a:rPr b="0" lang="en-US" sz="1400" spc="-1" strike="noStrike">
                <a:solidFill>
                  <a:srgbClr val="000514"/>
                </a:solidFill>
                <a:latin typeface="Garamond"/>
              </a:rPr>
              <a:t> bon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4648320" y="1600200"/>
            <a:ext cx="4114440" cy="3230640"/>
            <a:chOff x="4648320" y="1600200"/>
            <a:chExt cx="4114440" cy="3230640"/>
          </a:xfrm>
        </p:grpSpPr>
        <p:grpSp>
          <p:nvGrpSpPr>
            <p:cNvPr id="113" name="Group 11"/>
            <p:cNvGrpSpPr/>
            <p:nvPr/>
          </p:nvGrpSpPr>
          <p:grpSpPr>
            <a:xfrm>
              <a:off x="4648320" y="1600200"/>
              <a:ext cx="4038480" cy="3230640"/>
              <a:chOff x="4648320" y="1600200"/>
              <a:chExt cx="4038480" cy="3230640"/>
            </a:xfrm>
          </p:grpSpPr>
          <p:pic>
            <p:nvPicPr>
              <p:cNvPr id="114" name="Picture 8" descr="9057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038480" cy="32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Rectangle 9"/>
              <p:cNvSpPr/>
              <p:nvPr/>
            </p:nvSpPr>
            <p:spPr>
              <a:xfrm>
                <a:off x="5486400" y="4495680"/>
                <a:ext cx="13716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8077320" y="2819520"/>
                <a:ext cx="53316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17" name="Line 12"/>
            <p:cNvSpPr/>
            <p:nvPr/>
          </p:nvSpPr>
          <p:spPr>
            <a:xfrm>
              <a:off x="7010280" y="3124080"/>
              <a:ext cx="990720" cy="0"/>
            </a:xfrm>
            <a:prstGeom prst="line">
              <a:avLst/>
            </a:prstGeom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7696080" y="3200400"/>
              <a:ext cx="228600" cy="304920"/>
            </a:xfrm>
            <a:prstGeom prst="line">
              <a:avLst/>
            </a:prstGeom>
            <a:ln w="1260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7856640" y="352440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Garamond"/>
                </a:rPr>
                <a:t>Ethmoid</a:t>
              </a:r>
              <a:br>
                <a:rPr sz="1400"/>
              </a:br>
              <a:r>
                <a:rPr b="0" lang="en-US" sz="1400" spc="-1" strike="noStrike">
                  <a:solidFill>
                    <a:srgbClr val="000514"/>
                  </a:solidFill>
                  <a:latin typeface="Garamond"/>
                </a:rPr>
                <a:t>bone</a:t>
              </a:r>
              <a:endParaRPr b="0" lang="en-US" sz="1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7620120" y="3809880"/>
              <a:ext cx="3808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hmoid and Sphenoid B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thmoid B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anterior part of the cranium b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ms the floor of the cra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s up the medial wall of the orbits (eye socke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jor supporting structure for the nasal ca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phenoid Bon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medial base of the sk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nects the frontal, temporal, and parietal 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lla Turcica: a “saddle” for the pituitary gland in the br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ethmoid"/>
          <p:cNvPicPr/>
          <p:nvPr/>
        </p:nvPicPr>
        <p:blipFill>
          <a:blip r:embed="rId1"/>
          <a:stretch/>
        </p:blipFill>
        <p:spPr>
          <a:xfrm>
            <a:off x="4987800" y="1600200"/>
            <a:ext cx="373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tures in the Sku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tur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An immovable joint found only in the skull b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ronal Sut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between the frontal and two pariet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agittal Sutur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tween the two pariet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ambdoid Suture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tween the two parietals and the occipi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quamous Sutur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between the parietals and temporal b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5181480" y="1981080"/>
            <a:ext cx="3962520" cy="3816360"/>
            <a:chOff x="5181480" y="1981080"/>
            <a:chExt cx="3962520" cy="3816360"/>
          </a:xfrm>
        </p:grpSpPr>
        <p:pic>
          <p:nvPicPr>
            <p:cNvPr id="128" name="Picture 8" descr="sutures_ped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396252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9"/>
            <p:cNvSpPr/>
            <p:nvPr/>
          </p:nvSpPr>
          <p:spPr>
            <a:xfrm>
              <a:off x="7696080" y="266688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6781680" y="4267080"/>
              <a:ext cx="0" cy="53352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ntane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mbrane-filled spaces found between cranium bones in inf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ft Spo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ntually become ossified (replaced by bo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abies skull to compress, thus allowing child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ain to grow before the skull is completely fu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9696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Fontanel"/>
          <p:cNvPicPr/>
          <p:nvPr/>
        </p:nvPicPr>
        <p:blipFill>
          <a:blip r:embed="rId2"/>
          <a:stretch/>
        </p:blipFill>
        <p:spPr>
          <a:xfrm>
            <a:off x="5334120" y="1066680"/>
            <a:ext cx="380988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ial B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face grows the most in the first two years; then stops by the age of 1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asal 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xilla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form the lower orbit and upper jaw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Zygomatic Bon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cheekbon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ndibl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lower jaw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crimal Bone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mallest bones in the face; have a foramen for the tear duct to p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latine Bon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  form the hard palate in the roof of the mo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7" descr="cranium_front"/>
          <p:cNvPicPr/>
          <p:nvPr/>
        </p:nvPicPr>
        <p:blipFill>
          <a:blip r:embed="rId1"/>
          <a:stretch/>
        </p:blipFill>
        <p:spPr>
          <a:xfrm>
            <a:off x="4876920" y="2209680"/>
            <a:ext cx="42670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oid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U-shaped bone located in the neck between the mandible and the larynx (voicebox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rticulate with any other b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s the ton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attachment for muscles to allow for neck movement and swallow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hyoid"/>
          <p:cNvPicPr/>
          <p:nvPr/>
        </p:nvPicPr>
        <p:blipFill>
          <a:blip r:embed="rId1"/>
          <a:stretch/>
        </p:blipFill>
        <p:spPr>
          <a:xfrm>
            <a:off x="5410080" y="1600200"/>
            <a:ext cx="2667240" cy="200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yoid"/>
          <p:cNvPicPr/>
          <p:nvPr/>
        </p:nvPicPr>
        <p:blipFill>
          <a:blip r:embed="rId2"/>
          <a:stretch/>
        </p:blipFill>
        <p:spPr>
          <a:xfrm>
            <a:off x="5943600" y="3733920"/>
            <a:ext cx="19494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tebral Col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s the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the major nerves to enter and exit the spinal c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33 B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 Cervic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 Thorac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Lumb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Sacral (fused to form the sacru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Coccygeal (fuse to form one or two fused = coccy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8" descr="07_16"/>
          <p:cNvPicPr/>
          <p:nvPr/>
        </p:nvPicPr>
        <p:blipFill>
          <a:blip r:embed="rId1"/>
          <a:stretch/>
        </p:blipFill>
        <p:spPr>
          <a:xfrm>
            <a:off x="457200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4:23:17Z</dcterms:created>
  <dc:creator>Jeff Burghardt</dc:creator>
  <dc:description/>
  <dc:language>en-US</dc:language>
  <cp:lastModifiedBy>Administrator</cp:lastModifiedBy>
  <dcterms:modified xsi:type="dcterms:W3CDTF">2010-07-19T12:52:20Z</dcterms:modified>
  <cp:revision>13</cp:revision>
  <dc:subject/>
  <dc:title>Skeletal System</dc:title>
</cp:coreProperties>
</file>